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CA44-9CC3-44F8-AE06-2C3007A30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EF9-8C56-41E8-AD8A-FB8595AA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FF8-BA9C-402F-AAD1-D7F32A48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E27-447E-468B-B29A-6F21B59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239-B76D-45D5-A034-424A8534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958-F3B8-42DA-B924-7779B27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CF8B-FF61-4A0D-8201-5F57788E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E3D9-B994-4C73-BAE5-B23F3D5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235C-CD21-4BDC-BF53-31B160F2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869-B90F-47FB-8F66-DEC32322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EE05-CFB2-40D6-A4E9-1743B423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B348-F0D4-4E00-B9CA-ADD3FA4F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C404-011E-4CA1-A99E-3F9C9086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B03-4B2C-4CEE-BA60-6DEE6A0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81D-DED5-448A-892C-F06A1F6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E92-9754-49E4-825B-B0CD52C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5B73-B5AD-43A3-8506-150C6A1C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CE5F-A1A0-44F7-91C2-1D3B2098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822-A155-4BF3-9EB4-A9BF35FD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F1DC-D728-4B9B-A78A-A20B702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C4AC-7499-40F9-A7CA-CCF4BD5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CFC6-7978-4FBE-B38D-4371BB1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244D-DC29-482D-AE66-87739D5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9B00-5F5F-45CC-8870-3BD4AE5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D3A-1DD1-4B1B-B308-6752CA4B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1E6B-332B-4C10-8335-2FD66F8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43FC-AAE7-4307-83D3-AFB4093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DB4E-5916-44EA-BB8E-0E75383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75F0-846C-41DE-94BD-B29CF7E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C0BF-869D-43F4-A152-CD053691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8F50-40B1-4CF4-B27F-5DA56E22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1666-E76C-4E17-B275-5BD0586B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6468-596D-4EB5-BC9D-D1D76BF4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7774C-04F1-47C6-B4B6-4D53EBB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F522-91B0-4560-BCD7-505DBE4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48-D5E8-45BB-AE7C-448CEF2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9782-3466-4BDB-8507-DA8421F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0941-7A52-4736-B302-8A02C5E5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9A8A-A540-4FE6-806A-39188472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DBC8-574A-40B8-B9A5-E05A0D47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2E57-C1B3-4867-97F6-D955A69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40D2-AEDD-4363-8B5A-4EAC50C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62D5-1D7D-4DAB-B08C-8FB7965D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BFC5-2C19-4BD1-B5CA-5DCBA6A0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9B480-6EFB-4B7B-AA00-3953C7A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BAEC-8024-4602-9A75-D3EC051F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1A3-E590-453D-94C3-4DCF449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DA32-781A-4FFA-86EE-9DE9B66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4461-66ED-4765-BCD4-07301B9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0952-813C-41F3-B609-1AFFA6F8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26E6C-3E9A-4F22-BE4D-454D2FB8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622C-FC8B-4866-B9B6-E5680BAA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46DA-545F-4DFE-B846-D4445BC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F3FD-D4C4-41E0-843A-9F539125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0678B-2258-4B92-8F60-78047751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3E4A-336B-45FD-BA36-1977AE9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782B-4D43-4C2C-A997-B68039B8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524-A9FE-4D71-8972-87681A0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D555-F6BA-476F-818B-FC7FE346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2343-18B6-4EEC-BBBC-8E0D3093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8AF1-7D7D-4E72-8A1E-1C92E8B7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E4B6-F819-45CC-A0BB-0A56B73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E572-A4F0-40F0-85E6-9ABF2DA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EFDE-9D78-4BB7-A3EA-2238B00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13E6-7154-47A9-A932-93C9CB7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A699-F0E8-4513-8B8C-00A930D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118B-60CD-4C76-9EEE-6941D07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AC5B-A0CC-40EE-9F4A-8CE4B46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B39-5492-42AE-A971-3FAAC9F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61D1-9CCA-4D4F-86E6-187A3BC1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4DD8-2FB9-4C77-8542-F10023D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02E0-DB51-4A92-8ED3-F02651D4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2352D-205F-42F6-8C48-762DCE41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75386-5D0F-4A7A-8E11-C1826E9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8990D-F793-4D9F-A2BF-EA2BEC8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FFB5A-5292-4B39-8603-E091712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9DEB3-12A0-4993-8C4D-2051BE2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F87F5-C847-41CA-9978-F8271127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EA2B1-59ED-43DE-8899-599E161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43B-8E47-42FD-A99B-4FD0AC7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8C20D-56BF-460A-9A08-F0BF27E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D76CC-545E-4BC1-BF58-5FF7DC3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82AB4-053D-4103-87B4-0EAACC5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8B0FC-EE88-4663-B32B-97AE628E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CFFC8-6E7B-48E2-8EDF-F246C467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2E80-8CD6-4150-8255-B699F9C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29455-3D41-4EBD-96D1-060B679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C1A46-F64C-4BB5-B903-E3B019B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0AC4-E745-41D7-8930-1ABECAD7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081F-E0C7-4CEA-BCAF-DB0972E4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2A9-B27D-4D9B-A3FB-DDDBD6E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C410-EB97-4F39-B17E-890A719A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DF5B7-51F8-44CD-812F-4F9A1DD3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80CE9-FCFD-4C29-9446-360D52B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E76C-1F4A-49CE-A518-A65BEEC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26DB-5EF7-4EAC-893E-A052544C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2C112-6FD3-4F5C-9181-6E484065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53426-982E-4E4B-8ED2-74EAAFED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F3A-2C10-4202-8149-410EA010D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C69-252A-4214-AEDD-ABE6CD9010B4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158-18D5-42B2-A090-FE85BD12D8F4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DA2-EE3F-4BA9-BAC7-187A84D341CD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702-2F6B-4414-80D3-6CF7135DE15A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307-C924-4075-AC49-6DF39984ECE4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92A-B44F-4C0D-98D8-4690F8976997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A1C-0E00-4F3D-BF20-44C45386661B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8238-81EB-4B83-99F7-6B82C5142374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B1E-3407-4715-AB61-2CD530FD2386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B93-8628-4846-A533-17606192C63F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F6E-4100-4623-B947-78F8B0BE56F7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E297-D6AA-40FF-839B-117D89B19F53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684-426C-4A60-898D-C55703593141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D44-674C-4EAE-A5B9-B9868FB15369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3960" y="162828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КОНЦЕПЦИЯ РАЗВИТИЯ </a:t>
            </a:r>
            <a:r>
              <a:rPr b="1" lang="en-US" sz="2400" spc="-1" strike="noStrike">
                <a:solidFill>
                  <a:srgbClr val="40382d"/>
                </a:solidFill>
                <a:latin typeface="Book Antiqua"/>
              </a:rPr>
              <a:t>Г</a:t>
            </a: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.ВЛАДИКАВКАЗ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19640" y="2997360"/>
            <a:ext cx="2232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«5</a:t>
            </a:r>
            <a:r>
              <a:rPr b="1" lang="en-US" sz="5400" spc="-1" strike="noStrike">
                <a:solidFill>
                  <a:srgbClr val="6c271b"/>
                </a:solidFill>
                <a:latin typeface="Century Gothic"/>
              </a:rPr>
              <a:t>x</a:t>
            </a: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5»</a:t>
            </a:r>
            <a:endParaRPr b="0" lang="en-US" sz="5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954000" y="4194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достижений за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благодаря которым Владикавказ станет привлекательн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новых микрорайонов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(Московский квартал, Новый город, Северный)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микрорайонов (микрорайоны №31-32, микрорайон в поселке Карца) 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3:14:09Z</dcterms:created>
  <dc:creator>Вера</dc:creator>
  <dc:description/>
  <dc:language>en-US</dc:language>
  <cp:lastModifiedBy>Вера</cp:lastModifiedBy>
  <dcterms:modified xsi:type="dcterms:W3CDTF">2013-04-17T07:48:32Z</dcterms:modified>
  <cp:revision>2</cp:revision>
  <dc:subject/>
  <dc:title>Концепция развития г.владикавказа</dc:title>
</cp:coreProperties>
</file>